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460160"/>
            <a:ext cx="10464840" cy="408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overs.co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60280" y="23238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y Thomas Bel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overs.com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7160" y="2260440"/>
            <a:ext cx="12357000" cy="671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cated in Austin, Texa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livers comprehensive insight and analysis of companies, industries and people who drive the econom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mploys 375 peop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subsidiary of Dun and Bradstre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206760" y="8601480"/>
            <a:ext cx="545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(About -Hoovers.com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559556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ferenc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68280" y="2768400"/>
            <a:ext cx="12128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</a:rPr>
              <a:t>http://www.hoovers.com/about/100000489-1.htm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